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4D3-4FB8-4007-94B5-291975E7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2CD-3D02-4975-8469-12CA2C4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FF9-9D87-47C1-A400-111DE120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8F2-E894-4665-81C3-BDA80D36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907-F790-49AA-935E-F6B04BAC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277-425E-47E3-B70D-85AA77AF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60D-6E96-4BE0-BDCC-913C1BF6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2762-2D60-4F82-8B38-068514E7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B2F-F3B8-48EE-8CC6-20B643F8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191-9311-4A41-9DB3-5A567B8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EF83-A03F-474C-81A6-5AB6C36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C30-AD2A-4B42-9048-1B7E0B5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4422-44C6-4BE3-A7BA-C87567F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FAC-F109-422B-90F5-B01B240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1FB-AEF7-4D58-9AA2-04156F4F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9B4-4894-4D19-A0EA-43079C75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482-AC1C-4E60-BE97-59761CC4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C21-514C-4BC8-907B-BD056920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026-8C1D-42E5-8087-7627B71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85C-ECAF-428B-AB4B-0A99619A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51C-FDFF-4816-B98C-BE63374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850-4CB4-4E96-8C65-5F9F066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E7E-1452-4540-A582-1CE031D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F8D-A582-42D5-A263-592F79F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DE9-5A5D-4D79-AE21-5DAB11DB5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8AB-8553-4AF3-9727-2CAFFE028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lvin.stemnet.nf.ca/-acrawfor/lrc2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Workshop Overview</a:t>
            </a:r>
            <a:br>
              <a:rPr sz="62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ed by: Eddelyn D. Gupe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b-Enhanced Learning Activi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 Instructional Design worksh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ilipinas SchoolN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apted from: Patricia B. Arint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iversity of the Philippines – Open Univers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s research skills and fosters self-confidence in finding information by integrating library skills as part of subject curriculum (Nolan, 1989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s academic achievement in subject content, attitudes, and critical thinking through use of variety of resources in learning (Barrilleaux, 198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s work study skills and vocabulary in the case of multi-media programmes (DeBlauw, 197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ents – active learners as they use a wide range of materials to investigate subject material prescribed within their classroom curriculu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achers &amp; librarians – motivators and facilitators in the learning proc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d result – a “learning cultur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arning/Teaching in which students develop knowledge, skills and understanding by using a wide variety of print, non-print, and human resour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askatchewan Educ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hieves both subject and information literacy objectives through exposure to and practice with diverse resources (e.g., books, journals, newspapers, multimedia, Web, community, peopl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tauffer Library, Queen’s Univers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provide the opportunity for all students to develop independent learning skills, in conjunction with the acquisition of a basic body of knowledge which will enable them to become life-long learn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TEM Net </a:t>
            </a:r>
            <a:r>
              <a:rPr b="0" lang="en-US" sz="16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calvin.stemnet.nf.ca/-acrawfor/lrc2.htm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wide variety of resources is u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arning experiences are planned based on instructional objecti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arning strategies and skills are identified and taught within the context of relevant and meaningful units of stud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apted to different learning styles and subject are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sentia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ents actively participate in their learn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achers act as facilitators of learning, continuously guiding, monitoring, and evaluat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motes student autonomy: students, not teachers, work with resources to learn about topic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ows time for information gathering and reflection which in turn promotes deep learning (MacFariane, 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courages in-depth focus on a topic which drives students to seek more relevant information and produce a product of higher quality (Kulthau, 1993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ables the construction of meaning through active participation with information resources (Kulthau, 1993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motes acquisition of efective information skills through conceptual awareness of the nature of information and its diversity (Cleaver, 198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motes the development of thinking skills such as problem solving, reasoning, and critical evaluation through information handling and independent research (Resnik, 1987: Todd &amp; MsNicholas,1994/9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or information gathering as a continuous process rather than unconnected tasks, thereby encouraging the construction of knowledge at every subsequent phase (Moore, 199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nects information handling and use with subject matter (Pitts, 1994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ows for the active construction of personal understanding using reflection and self-assessment so information is given a context, mental model, or framework (Stripling, 199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1:53:22Z</dcterms:created>
  <dc:creator>Student's</dc:creator>
  <dc:description/>
  <dc:language>en-US</dc:language>
  <cp:lastModifiedBy>Student's</cp:lastModifiedBy>
  <dcterms:modified xsi:type="dcterms:W3CDTF">2011-01-06T02:25:25Z</dcterms:modified>
  <cp:revision>3</cp:revision>
  <dc:subject/>
  <dc:title>Workshop Overview</dc:title>
</cp:coreProperties>
</file>